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84B-3846-474B-870D-DEB846E3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9A1-DBA6-4BC6-8424-C3A47F2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C9ED-1B1F-4BBB-88AB-FFA0DFD2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39F9-84D7-44B8-95A5-70CC3336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85CF3-8E97-49EF-8AE9-0E72B7C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76C2E-9DCF-4B3C-9DC9-041C54B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1A06E-811B-4EEA-B17D-3BF2934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5F79-3757-49B7-BF28-D652908A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39189-0F75-4796-9EE3-5FFF5513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E44E3-59B4-4411-994B-D480EE59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C3309-3085-443F-A2B9-ECB35025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4BDC7-A7F2-4FD4-B72E-F48A08D4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13D-DD49-411A-BDA4-90849577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D9D69-85F0-4819-A047-2F3ED00A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A501E-DCD1-47F8-B4DC-B4BEC1E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5D64C-0612-415D-8BCF-60F25EC0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2CAAA-93B3-4721-B428-5A55FE7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7AC34-8F8D-4105-BC76-3C02062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42B60-BD4B-4450-83BC-1E9EB50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B6D80-C9B1-49EB-97A9-74A0203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D5A3-64CF-4108-95B2-95817AD4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CD153-D195-40DC-8C8C-1645E819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EA289-FE7F-42C9-A062-C7697FF8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A45-A150-4FB6-B4B1-55710D6D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1F0C1-15AB-42A7-B147-B803B419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30699-9759-4998-BFC4-BA576FD0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4F27-C376-4732-B55A-4F3CFE7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3F59-DBC4-4230-946D-34C51709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A2148-BD49-4FDA-A4A3-9D5F5B76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0C665-9BE2-41C8-B8C0-A150D097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30B48-B9E4-4048-807F-299BD03D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0A33-E485-4430-A4E1-BA2A892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BFB4-1442-41CE-9FD5-CDBF567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9EA4F-2714-4759-9E69-F7C2D42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5311-A081-4DF7-99C1-91264229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E56B-8528-4108-B0D8-B639E811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48B4-B8AB-4A1C-9F4F-41ED76B3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BB455-7B80-4905-BE91-F463095C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483E1-43D1-4CC6-AF67-8DBA8782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71819-28DA-4977-946B-FFB18726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17989-2C63-4378-8C52-17164F1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1FE44-901A-47EC-8377-B72FD28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A254-B27C-43A6-B517-5B17A2B2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C4F5A-F47B-4F31-89E9-5493FD7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6C26B-ECF6-44CF-A14B-E7664FD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CEA6-9AA5-465F-A2C1-0F66EC1A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54EE5-EE4F-4245-B097-23F4F52B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95D45-0908-42AD-9F51-3838F5E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31811-C71C-4DA5-A021-A38693D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58CB3-F978-47E8-848A-1A19609C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6F716-A775-41B1-A2BD-3A4B79DB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22F1-C6DC-4C10-93C8-B696E8B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1CFA-0F3C-449D-AEFE-0B1557F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C282-6929-4033-A482-AC25A20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2E0-F9C9-4CA0-A755-D8FD14F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7EDB-5044-478A-A5CD-649ABA7F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F50-8F10-4CBE-A36A-0DE8D7BD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AE1F-8ED9-482B-9B5B-0B4773F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960-6ECD-4A43-AD78-4D4C181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185F-D42D-44B2-9114-388D7F5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731-E304-4EEF-BD78-A8916AD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17B7-9A53-4AAC-A606-F4A3618A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AD03-12BD-4B86-8EC3-98BCEBDE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6EFC-D523-458F-ACE6-781008A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D731-2404-4953-B747-7F69D76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6B01-D97C-471A-908D-3E12144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E41F-E2C4-4FF5-9E7C-4CFB657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6F3-36CC-42C0-969D-2A3E6B3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4F6E-81A3-40D7-A189-1831DA6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6266-88D9-4D71-B9F1-C5318D49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8CF1-3A5B-442C-970A-3AA54CB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F451-CAA3-4DF2-B002-7B730CD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0BCD-366B-4DE0-944A-8B5C0ED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6CA8-6775-44A7-A5AA-63326A36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2FC4-C6F7-4C55-9F4E-1000207B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5DC5-425B-4295-A669-F211C26D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AFDE-E992-436E-BD3A-9276598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B891-7F71-4763-A976-FAFF67E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941-23D4-403D-9998-97740B3C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4C63-91C0-4391-953E-50A149E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2660-B938-490C-B9B9-73F5D104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C064-B2A2-4EA6-AA34-FA96A40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C374-B617-44D1-9BE4-B718D97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4B0F-9BE3-49F2-97FD-7B6DE2F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1216-2ECE-49C2-B3BA-1836DED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8518-BC43-4A95-94B4-03937A6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187E-D15F-49BC-B829-D22302F0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049F-FCAB-43B7-A491-89ADE34E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F022-3645-43C4-9C66-9EAC22D4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EDA-45AA-4BFF-B156-001B3BFF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E56C-86E8-4C81-AF1B-BF14A57A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36B9-F817-4223-B3E0-D8EFE1D1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027A-AB3E-479A-AA86-2727678F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8C5E-9D95-4FF6-A160-41F33D0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7DB0-EE16-494E-B741-1BDED5A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58BE-4F95-493B-8BC0-086B43E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1F38A-CDE2-407A-8406-59567D1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ABBE-EE80-43E6-9C8D-F861844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AFDF-0330-4E8A-BDBA-B8842B8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D7D0-BDD1-48DD-9217-A83EBAEA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409-FF1A-4F87-90D8-512D9853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EE08-72C2-4E1D-9EC8-BA2FB1DA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B5C6-46B0-4C39-84F6-CD3702C8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F002-D4BD-4FE2-AD92-E18EA3F7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CD0C-D9EA-4BD0-A3EF-9B123F4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D44A-967C-40BC-AAE2-24A6151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8E5AF-A17D-4A7D-BFA3-F885C152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3902-D4E0-41A3-985C-15F5B9D4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7127-AEB8-4FC3-96DB-702F039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1AD06-3787-4C80-ABED-F6AB1C6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53B3-151C-41A1-80CC-CE1D153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9D9-56F2-4842-AB39-31EA8C0F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C926-4521-42A6-9026-AA97E724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EA406-EDAA-4A23-99B0-057A055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719E-392B-4E81-914D-982F6998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4000-338A-40D4-92D4-4295CB6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A08F8-3051-4D9C-92FB-48C1AE7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A166-C7E3-4106-8BF6-3436FC1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868A8-5B39-4334-9EE7-FFC105A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FB89-6652-4E7A-80F8-7D15622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BD32-F8F0-438A-9996-F61C7C7B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4A4EF-669D-46A2-A845-5C5C0BB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94B-5CEA-430A-ADDA-0DC9618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298A-D1A4-4A14-8AE5-77A387A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FACE-AA79-4E76-BC2E-4FFE007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2A09-5688-460E-A586-53335B47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C252-1CA5-4F63-98CA-3CC2C15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D905-4B4F-462E-B061-7EBE0752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C6EF-BD75-42E7-A6F3-A43B41C9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F7AB-11AB-4496-8492-2872B89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A7A6-E4E8-4632-9EAC-E7DCF1E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9572-BCD0-46CD-ACB8-C17C0F14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D2FB9-41B4-4204-825E-34F9746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2BB-141A-4EF4-B51C-032D1C44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E10E-7B04-4BFD-8CD0-6C8989E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C2F5-0670-4F4E-BC92-A1D27B0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80CA-5649-4F13-88EC-6ADC15A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8617-2939-4C64-8E41-CB79FF0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7792-04E5-4BC3-8425-7C0045A3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6456-AF39-4276-A00A-A663C9E4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70CD8-D6F2-4B18-A669-6199E815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F4529-DD6F-4ACF-A45E-8808A6A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C3BDB-4F9F-46AA-8BF8-09697FC5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2C5D-38CA-4C75-99D1-61DD1FA0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EC0-74F7-4DF7-9328-3D02218DE1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75B-CAFC-4E2A-9375-17A7269F16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7D8-7C49-45BD-AD73-41DF9962BA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E39-81BB-46BA-A196-E245EF8F5E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985-9C91-4DEA-9C5A-7816065FD9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F684-39F2-4099-B91D-EF85B78DAB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E2C3-7F7A-42D4-B2CC-8543DD1A5F6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017-6233-4C53-94E5-ABFFDCAFC7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650-F921-400C-B289-C4E2CA6B6E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CF2C-7B98-4684-9BE5-32703F973E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7EDB-3EC0-4372-B589-934B1961A7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5D5-158B-488B-8BF1-C84244D309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2 Len v mene Ježi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y zdr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mene Ježiš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veta záchrana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mene viera má ští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zvodmi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t v nikom inom spas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spásnom mene tom, čo Otec zvolil pre Sy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tal sa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ľa zvesti Písma stane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eň Pánom určený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k menu Ježiš prizná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bude spas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aše je spasen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32:50Z</dcterms:modified>
  <cp:revision>21</cp:revision>
  <dc:subject/>
  <dc:title>Je veľký náš Pán, on slávy je Kráľ Nech do všetkých strán  spev vrúcnych znie chvál.</dc:title>
</cp:coreProperties>
</file>